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21EA-4C1D-4880-8433-9D2673FEE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 ontolog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s by its nature intertwined with C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u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do not have cerebral corext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936-CA3F-4692-A8E4-81414C2F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EAF-96E6-435B-9A33-C05AA10A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03F-56A9-4F35-8690-3DE0F8CE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35D-0B6E-4218-A0DE-445B817F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F8C-36FA-4286-A64C-B42BB74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631-3270-430A-B68E-EE44AAA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355-84C5-46BE-B51A-C3C2F61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74A-6A4A-4E3F-ABEF-8CAC8DC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C82-EEDB-4E10-8140-DD9D8DB8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518-A7C5-42EF-9497-4C9F012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FCB-5548-45D2-A9C0-0842D45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B7A-CF84-4802-A831-AD27231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3C8-D50F-405C-B360-40B26179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pplication of OBO Foundry Principles in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Consorti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both reference and applic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ame artefact (i.e. file) is used for both ontology editing and dat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s has worked reasonably well until n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encourage making a disti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 views (ak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GO slim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only used to present a very small subset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 wider use for extracting most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 in GO 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part_of Y: all Xs are part_of some Y (for the entirety of the duration of the existence of the X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nucleus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cell (all nuclei are always part_of a cell, not all cells have a nucleus as par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 both continuants and 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 ordering for proce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rt-of 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is_a Y: all Xs are Ys (for the entirety of Xs existenc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there are issues with is_a in GO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incompleten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a has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GO types hav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a problem in M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ed in CC (July 2006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ing fixed in BP (Sept 2006: right now, here in Seattl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a contentious issu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mpletion requires new high-level types i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ceived as being too abstract by biologis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mple solution: applic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move high level terms in annotation view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iamonds cause probl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, easy to make mistak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urce of problems typically due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ultiple axes of class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us - differentia (aristotelian)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ka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ross-products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[Hill et al]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ways a single gen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ose consistent axis of classifi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classifier/reasoner to provide different views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53680" y="4648320"/>
            <a:ext cx="31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 tangled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" y="457200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ixes (at l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two </a:t>
            </a: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ax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840" y="4572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olution: separate the ax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52680"/>
            <a:ext cx="182880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8288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4290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676520"/>
            <a:ext cx="1851120" cy="91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3733560"/>
            <a:ext cx="1219320" cy="190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24480" y="380952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20120" y="2285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20" y="5486400"/>
            <a:ext cx="182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comp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genus-differe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943600"/>
            <a:ext cx="1067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e the subsumption DAG from the defin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124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048120"/>
            <a:ext cx="2457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86000" y="3580920"/>
            <a:ext cx="1828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36572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213336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105160" y="22093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3000" y="4419720"/>
            <a:ext cx="290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DA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ch as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 (MF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 (BP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 (C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and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re-composed in ontology, prior t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editor creates term, with 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reasoners to classify the DAG automatical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ost-composed (created on the fly) at annotation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term with ID is cre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utationally,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t makes no dif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we adhere to the genus-differentia formal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 practices and pre-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-composition of terms in the ontology is good as it creates a map of biological reality, linking foundry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in reas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Biological Process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BO C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neur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ne cell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fate spec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T cel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rythroc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granu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Cell is species-neut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ability to effectively created computationally visible genus-differentia definitions is new to most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on to be cre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(many terms now don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definitions referencing OBO-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Disease definitions referencing F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ic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ChEBI (chemical entit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anatomy (we need CARO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current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1080" y="6477120"/>
            <a:ext cx="136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is_a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not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future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56386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Genus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tube 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Differentia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6483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 of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 biolog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6154200" y="32608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92160" y="3048120"/>
            <a:ext cx="67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4040" y="548640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 regen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3400" y="563868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200" y="5500800"/>
            <a:ext cx="29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3680" y="556272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Gill Sans"/>
              </a:rPr>
              <a:t>species-neutr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core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 shared process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ranscrip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es specific to organism typ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in development, fly courtship behaviou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karyotes and eukaryo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52280"/>
          <a:ext cx="58766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58766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165800" y="27144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343400"/>
            <a:ext cx="32004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7242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8769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7242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ranularity of the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981080"/>
          <a:ext cx="8153280" cy="4224600"/>
        </p:xfrm>
        <a:graphic>
          <a:graphicData uri="http://schemas.openxmlformats.org/drawingml/2006/table">
            <a:tbl>
              <a:tblPr/>
              <a:tblGrid>
                <a:gridCol w="2235240"/>
                <a:gridCol w="1973160"/>
                <a:gridCol w="1971720"/>
                <a:gridCol w="1973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tinu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ole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Sub?)Cel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rganis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 ontology, with rich terminological featur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‘terms’ are actually representations of types (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k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kinds, universals, class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s (i.e. the phrases used by biologists) are attached to the representations of types 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 hav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linguistic re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o the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ct, broad, narrow, rela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from ontological relations between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s_a, part_o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moving to genus-differentia style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ny definitions are still dictionary-style, terminolog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scribe how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er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u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666880"/>
            <a:ext cx="5486400" cy="221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entral nervous system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entral nerv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The process by which the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anatomical structure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of the </a:t>
            </a: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Gill Sans"/>
              </a:rPr>
              <a:t>central nervous system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generated and orga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8T21:13:56Z</dcterms:modified>
  <cp:revision>670</cp:revision>
  <dc:subject/>
  <dc:title>Ontologies for biological annotation</dc:title>
</cp:coreProperties>
</file>